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6968-57AE-4F50-89EF-84BE524F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370A-4B27-4D25-AA38-85C376270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530-89BA-4922-ACDF-42DB07AED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FA85-AE4F-49C7-8A6F-D2923AC7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45D7B-0F17-42F2-A931-3CA24952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E6EF-DF43-41A1-9B81-5A2F347A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33FF-A031-4453-81FD-B327AC60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CB40-A93D-479F-B049-5C5D42D6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178D-69A4-40B4-B89D-17706A8C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6417-1719-4B3B-B184-F90EEF5A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D4EA-198F-4B82-9CFB-703FDE37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29BC-3839-4D59-9BC6-C5FE1298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B564-A57D-4FD3-86CB-4F1F65CB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6244-CC91-4D22-B54A-BF857B19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471C-DB0A-493E-962A-61DD48F5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341E-E01D-446F-A62E-7AF223B97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4384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2160" y="164304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552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4384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2160" y="4180680"/>
            <a:ext cx="26265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2415-D057-48F6-B9FA-840322B4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F2A1-17AA-4A85-8E65-7192E401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490-0BDA-4266-BD06-BF8419FE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315F-6E9D-4C2E-BE38-C18A97C1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14240" y="2854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FBE-BF62-4248-9B91-C7B2677B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F76-2578-4AB2-A4AD-F3C838BF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5840" y="418068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A63E-4CED-4362-8DBB-3A519BA5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5840" y="1643040"/>
            <a:ext cx="398088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85520" y="4180680"/>
            <a:ext cx="815796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739-C665-4194-BDEB-50B104CD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8531-B132-4F51-8128-8BCE2FA8BC6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85520" y="1643040"/>
            <a:ext cx="81579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1A875-2044-49FD-844F-67FE1CAF5DE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71480" y="1142640"/>
            <a:ext cx="634356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00280" y="3714840"/>
            <a:ext cx="540072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5520" y="1643040"/>
            <a:ext cx="81579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706320" y="281160"/>
            <a:ext cx="8242560" cy="1150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3142800" y="1428480"/>
            <a:ext cx="580068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moderntheorie.com/wp-content/uploads/2010/11/E-mail-is-very-important-to-the-Company.jp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nppbillon.ru/images/e-mail.p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3" descr=""/>
          <p:cNvPicPr/>
          <p:nvPr/>
        </p:nvPicPr>
        <p:blipFill>
          <a:blip r:embed="rId2"/>
          <a:stretch/>
        </p:blipFill>
        <p:spPr>
          <a:xfrm>
            <a:off x="1500120" y="1428840"/>
            <a:ext cx="10000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d:\Мои документы\Мои рисунки\e-mail.png"/>
          <p:cNvPicPr/>
          <p:nvPr/>
        </p:nvPicPr>
        <p:blipFill>
          <a:blip r:embed="rId3"/>
          <a:stretch/>
        </p:blipFill>
        <p:spPr>
          <a:xfrm>
            <a:off x="1571760" y="30718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7:55:38Z</dcterms:created>
  <dc:creator>Comp</dc:creator>
  <dc:description/>
  <dc:language>en-US</dc:language>
  <cp:lastModifiedBy>Comp</cp:lastModifiedBy>
  <dcterms:modified xsi:type="dcterms:W3CDTF">2011-07-27T08:00:47Z</dcterms:modified>
  <cp:revision>1</cp:revision>
  <dc:subject/>
  <dc:title>Слайд 1</dc:title>
</cp:coreProperties>
</file>